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1415-CE74-42AE-AA61-9681444B2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FABF-93CD-4064-934E-64D0ECBB7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5563-AAA6-4144-A839-E5ADEADB1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D58D-7363-45E6-B78C-F7EAF3D25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DCE2-CB60-4B88-88FD-D2E524362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4ADB-6E08-4765-BF4F-13CE335A3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CB4E-450B-490E-99FA-CDCB1858A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E784-A6EB-4767-9EE8-3FA63252C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EA5D-13D2-46E2-B682-8ED8B8693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4FA3-CB45-4F5D-AFAD-25469DBE9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9022-E418-4BD7-9255-7CCB6B12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FCAD-3576-4F08-823A-35549133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0311D-E3D8-4C44-958C-AACDEC355A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ccff"/>
                </a:solidFill>
                <a:latin typeface="Comic Sans MS"/>
              </a:rPr>
              <a:t>"Ladies and gentlemen, Welcome to Mwanza International Airport, the Gateway to Central Africa. Please remain seated until the aircraft has come to a complete stop. For those of you with a window seat, you will have noticed that the runway has moved since last time we were her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ccff"/>
                </a:solidFill>
                <a:latin typeface="Comic Sans MS"/>
              </a:rPr>
              <a:t>A difficult cabin announcement....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taat5" descr=""/>
          <p:cNvPicPr/>
          <p:nvPr/>
        </p:nvPicPr>
        <p:blipFill>
          <a:blip r:embed="rId1"/>
          <a:stretch/>
        </p:blipFill>
        <p:spPr>
          <a:xfrm>
            <a:off x="1371600" y="609480"/>
            <a:ext cx="6234120" cy="449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Comic Sans MS"/>
              </a:rPr>
              <a:t>”… </a:t>
            </a:r>
            <a:r>
              <a:rPr b="1" lang="en-US" sz="2000" spc="-1" strike="noStrike">
                <a:solidFill>
                  <a:srgbClr val="ccccff"/>
                </a:solidFill>
                <a:latin typeface="Comic Sans MS"/>
              </a:rPr>
              <a:t>Never mind, we’ll just paddle to the terminal building...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taat6" descr=""/>
          <p:cNvPicPr/>
          <p:nvPr/>
        </p:nvPicPr>
        <p:blipFill>
          <a:blip r:embed="rId1"/>
          <a:stretch/>
        </p:blipFill>
        <p:spPr>
          <a:xfrm>
            <a:off x="1676520" y="685800"/>
            <a:ext cx="6081480" cy="449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Comic Sans MS"/>
              </a:rPr>
              <a:t>”… </a:t>
            </a:r>
            <a:r>
              <a:rPr b="1" lang="en-US" sz="2000" spc="-1" strike="noStrike">
                <a:solidFill>
                  <a:srgbClr val="ccccff"/>
                </a:solidFill>
                <a:latin typeface="Comic Sans MS"/>
              </a:rPr>
              <a:t>and dry off in the sun... 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taat8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157800" cy="4621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00:32:06Z</dcterms:created>
  <dc:creator>Rotherham</dc:creator>
  <dc:description/>
  <dc:language>en-US</dc:language>
  <cp:lastModifiedBy>HP USER</cp:lastModifiedBy>
  <dcterms:modified xsi:type="dcterms:W3CDTF">2000-02-25T18:46:24Z</dcterms:modified>
  <cp:revision>6</cp:revision>
  <dc:subject/>
  <dc:title>No Slide Title</dc:title>
</cp:coreProperties>
</file>